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breeze.wav" ContentType="audio/x-wav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468-05AC-446F-A4D5-C543DE83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DB7-24E6-46DE-92F2-1764DAE2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8DB-FB78-4936-97AF-8721BB91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141-D14A-4896-AEC1-96A991D8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553B-8FB1-43DD-B6F7-753A75B5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AE5-25F6-483A-A2A0-E260D633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765-54A8-4EEB-8E79-A58297A0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F52-7540-4400-B2A3-F2ECF987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D062-D117-414B-BB09-864317D4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C7B9-7364-49A8-AB6C-5E1F75A4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DF0-54F8-4BCC-A6F4-8276A436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A8F-3EE7-4133-B0E2-E002FEF8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CB67-4BCC-4898-AEB5-45093FFB0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ind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que eu falass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língua dos home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falasse a língua dos anjo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m amor eu nada ser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ficina – recursos tecnoló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E Senador Filinto Mu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ia Aparecida Ma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úsica: Monte Cas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só o amor! É só o amo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 conhece o que é verdad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amor é bom, não quer o mal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ão sente inveja ou se envaide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amor é o fogo que arde sem se ver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ferida que dói e não se sente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um contentamento descontente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dor que desatina sem d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Imagens de paisagens em papel de pare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nda que eu falass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língua dos home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falasse a língua dos anjo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 amor eu nada s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2440" y="3242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nda que eu falass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língua dos home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falasse a língua dos anjo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 amor eu nada se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7600" y="3242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um estar-se preso por vontade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servir a quem vence, o vencedor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um ter com quem nos matar a lealdad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ão contrário a si é o mesmo a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90760" y="3243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um estar-se preso por vontade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servir a quem vence, o vencedor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um ter com quem nos mata a lealdad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ão contrário a si é o mesmo am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91800" y="3242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um estar-se preso por vontade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servir a quem vence, o vencedor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um ter com quem nos mata a lealdad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ão contrário a si é o mesmo a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7054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nda que eu falass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língua dos home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falasse a língua dos anjos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 amor eu nada s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2" name="breez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3:50:53Z</dcterms:created>
  <dc:creator>SEDMS</dc:creator>
  <dc:description/>
  <dc:language>en-US</dc:language>
  <cp:lastModifiedBy>SEDMS</cp:lastModifiedBy>
  <dcterms:modified xsi:type="dcterms:W3CDTF">2010-11-09T00:52:23Z</dcterms:modified>
  <cp:revision>4</cp:revision>
  <dc:subject/>
  <dc:title>MONTE CASTELO – LEGIÃO URBANA </dc:title>
</cp:coreProperties>
</file>